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-360" y="-11169720"/>
            <a:ext cx="360" cy="23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26E-38BD-45A2-B5D5-F029E23E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15880"/>
            <a:ext cx="8004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84E-1B69-44F1-A156-1721A6B1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992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722-A834-4D84-B135-B1A33648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040" y="190512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1588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11588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040" y="411588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5A3-069F-4CF2-8911-748EC5F4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7FED-46FF-4E96-9F13-C2C5BC8B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800424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C073-2439-4A3B-AD7F-B32FBE11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C644-7727-4603-97FD-54E5A23E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777B-C20F-42E2-B9EC-4D53F8D7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4783-0075-48D6-9DA0-053A34F8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-272880"/>
            <a:ext cx="838188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49FE-9E4B-4A6C-A7A5-199740EA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EB39-3EF7-4DE7-84AD-0216E9B1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800424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131-684D-412D-9ECB-F8E7E593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992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4DD2-DE13-44D1-AD5C-2853276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115880"/>
            <a:ext cx="8004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F401-0E76-4286-99FC-191B4912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115880"/>
            <a:ext cx="8004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BCB3-2C30-4631-B1BC-5B8B4437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992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2984-B995-461D-AC17-C28D2F6C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040" y="190512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11588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11588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040" y="411588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781C-E554-45B6-AAA0-AEB4F66F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779-07A0-478B-AF27-CE85330F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C71-6900-4802-A4E8-2D0613CA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282-F536-4C10-81F0-5D9048E2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272880"/>
            <a:ext cx="838188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7D7-E3FC-467D-9DEE-9979D7D3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C43-035A-4450-A65A-CE5AE7EF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992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AEF-B384-47B8-B42E-264D4FAE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15880"/>
            <a:ext cx="8004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9F6-C6BD-41BC-8722-F13B3B19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3240" cy="5027760"/>
            <a:chOff x="318960" y="1828800"/>
            <a:chExt cx="8823240" cy="5027760"/>
          </a:xfrm>
        </p:grpSpPr>
        <p:sp>
          <p:nvSpPr>
            <p:cNvPr id="1" name=""/>
            <p:cNvSpPr/>
            <p:nvPr/>
          </p:nvSpPr>
          <p:spPr>
            <a:xfrm>
              <a:off x="837720" y="4617000"/>
              <a:ext cx="8304480" cy="223920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00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7720" y="4653360"/>
              <a:ext cx="8304480" cy="22028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7720" y="1828800"/>
              <a:ext cx="731232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5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7720" y="1828800"/>
              <a:ext cx="45720" cy="28324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280" y="4609080"/>
              <a:ext cx="45720" cy="224712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09080"/>
              <a:ext cx="45694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5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09080"/>
              <a:ext cx="47520" cy="224712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8080" y="6245280"/>
            <a:ext cx="18986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899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683FD-A3AF-4F6C-B2CE-FFB81A7C6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8080" y="1905120"/>
            <a:ext cx="8004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3240" cy="5127480"/>
            <a:chOff x="318960" y="1752480"/>
            <a:chExt cx="8823240" cy="5127480"/>
          </a:xfrm>
        </p:grpSpPr>
        <p:sp>
          <p:nvSpPr>
            <p:cNvPr id="51" name=""/>
            <p:cNvSpPr/>
            <p:nvPr/>
          </p:nvSpPr>
          <p:spPr>
            <a:xfrm>
              <a:off x="333000" y="1752480"/>
              <a:ext cx="8809200" cy="510408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7720" y="3809160"/>
              <a:ext cx="8304480" cy="30470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2800"/>
              <a:ext cx="54838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5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7720" y="1752480"/>
              <a:ext cx="77680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5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2800"/>
              <a:ext cx="47520" cy="31071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7720" y="1752480"/>
              <a:ext cx="45720" cy="51184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5120"/>
            <a:ext cx="77691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8986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899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23378EE-9BC2-477A-8A30-8FF5E2A866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1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4438800" cy="3114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LA GENERACIÓN DEL 98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76360" y="1484280"/>
            <a:ext cx="352764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ÍNDI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sti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u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27241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900080" cy="2421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4.2. Pío Baroja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 pesimismo existencial se refleja en su ob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estra claramente la actitud inconformista y crítica frente a los defectos de la sociedad: convencionalismo, hipocresías, prejuicios morales, injusticia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leri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ende la vida como lucha: la sociedad es el campo de batallas donde se libra “la lucha por la vida”; sólo los más fuertes sobrevi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Rasgos de sus novelas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79280"/>
            <a:ext cx="82296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tema es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vid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ente al narrador objetivo de la novela realista (s. XIX),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rticip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en la acción con comentarios y reflexion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 estilo persigue la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revedad y precis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Su relato fluye rápido y ameno; su lenguaje es cercano al coloquial (antirretórico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El árbol de la cienci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predomina la reflexión pesimista: narra la juventud de Andrés Hurtado, contrafigura de Baroja. El trabajo de médico, la muerte de su hermano pequeño y las lecturas le llevan a sentir la vida como algo mezquin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25304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Parte de la obra de Baroja tiene como marco el País Vasco …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24360" y="260280"/>
            <a:ext cx="4840200" cy="3492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4752720" cy="375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987640" y="5516640"/>
            <a:ext cx="56167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unto a estas líneas, 4 grabados para La busca: estampas del mundo del subproletariado del cinturón industrial de Madr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4.3. José Martínez Ruiz, AZORÍN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3059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su juventud mantuvo posturas radicales sobre la situación del país; evolucionó hacia posturas conserva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obra gira en torno al tema del paso del tiempo. Evoca la realidad en tono tris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igual que los otros escritores del 98, evoca recuerdos de la infancia, pueblos y paisajes, descripciones del paisaje castell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estilo en novela es sencillo, con frases breves y descripciones yuxtapuestas (impresionist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l ensayo predominan dos temas: paisaje español y crítica litera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Diferencias y semejanzas entre ambos grupos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260360"/>
            <a:ext cx="8007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SEMEJANZA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iven en los mismos añ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jan la crisis de finales del siglo XIX.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hazo de la Literatura realista y simplon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eo de renovación social y estét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 al subjetiv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79280" y="291960"/>
            <a:ext cx="8818200" cy="6367680"/>
            <a:chOff x="179280" y="291960"/>
            <a:chExt cx="8818200" cy="6367680"/>
          </a:xfrm>
        </p:grpSpPr>
        <p:sp>
          <p:nvSpPr>
            <p:cNvPr id="143" name=""/>
            <p:cNvSpPr/>
            <p:nvPr/>
          </p:nvSpPr>
          <p:spPr>
            <a:xfrm>
              <a:off x="4588560" y="5711760"/>
              <a:ext cx="4408920" cy="947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Lenguaje sencillo y personal (dan más importancia al contenido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9280" y="5711760"/>
              <a:ext cx="4409280" cy="9478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Lenguaje sensorial, estético y evocador (simbolista): la forma es lo principal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88560" y="4927680"/>
              <a:ext cx="4408920" cy="785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Géneros: el ensayo y la novela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9280" y="4927680"/>
              <a:ext cx="4409280" cy="7858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Los géneros preferidos: lírica y prosa poética renovada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88560" y="4143240"/>
              <a:ext cx="4408920" cy="784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Gusto por el lenguaje antiguo y los dialecto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" y="4143240"/>
              <a:ext cx="4409280" cy="78444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Gusto por lo brillante o decorativo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88560" y="3360600"/>
              <a:ext cx="4408920" cy="782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Denuncia de la decadencia moral y social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9280" y="3360600"/>
              <a:ext cx="4409280" cy="78264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 Evasión hacia lo lejano y hacia el intimismo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88560" y="2413080"/>
              <a:ext cx="4408920" cy="94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Temas patriótico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2413080"/>
              <a:ext cx="4409280" cy="9475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  Temas de tradiciones diversas: clásicas, medievales, exóticas, et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88560" y="1901880"/>
              <a:ext cx="4408920" cy="511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Reflexión sobre España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9280" y="1901880"/>
              <a:ext cx="4409280" cy="51120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   Gusto por lo particula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88560" y="954000"/>
              <a:ext cx="4408920" cy="947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Se desarrolla en la literatura castellana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9280" y="954000"/>
              <a:ext cx="4409280" cy="9478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192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Se desarrolla en Hispanoamérica y España, con influencia europea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88560" y="291960"/>
              <a:ext cx="4408920" cy="663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                       </a:t>
              </a: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GRUPO DEL 9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280" y="291960"/>
              <a:ext cx="4409280" cy="6638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DIFERENCIAS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                             </a:t>
              </a: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MODERNISM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280" y="291960"/>
              <a:ext cx="881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280" y="6657840"/>
              <a:ext cx="881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280" y="291960"/>
              <a:ext cx="1440" cy="63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996040" y="291960"/>
              <a:ext cx="1440" cy="63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9280" y="955800"/>
              <a:ext cx="8816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88560" y="291960"/>
              <a:ext cx="1080" cy="63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9280" y="1901880"/>
              <a:ext cx="8816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9280" y="2413080"/>
              <a:ext cx="8816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9280" y="3360600"/>
              <a:ext cx="881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280" y="4143240"/>
              <a:ext cx="881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9280" y="4927680"/>
              <a:ext cx="8816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9280" y="5711760"/>
              <a:ext cx="881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5200" indent="-835200">
              <a:lnSpc>
                <a:spcPct val="100000"/>
              </a:lnSpc>
              <a:buClr>
                <a:srgbClr val="ffffb7"/>
              </a:buClr>
              <a:buFont typeface="Arial Black"/>
              <a:buAutoNum type="arabicPeriod"/>
              <a:tabLst>
                <a:tab algn="l" pos="8352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81864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autores coetáneos de los modernistas (límites difus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. del 98”: nombre dado por Azorín al grupo de escritores que desean cambiar la vida de España (preocupación por España y sus problemas: corrupción, atraso, incultura, conservadurismo …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3851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.1 Características de estos escritores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 edades son aproxim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an como maestro a Lar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een un formación común (lecturas de Nietzsche, Schopenhauer, etc.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acontecimiento los une: el desastre de 189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nen las mismas preocupaciones: pobreza de España, atraso, influencia negativa de la Iglesia (anticlericales)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énero ideal es el ensayo; renuevan la nov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. Temas de esta generación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507520" cy="62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tema principa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el tema o problema de España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Unamuno dirá: “me duele España”). Tratan de entende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é es Españ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e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España 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til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hablan de ella a travé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 paisa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dan una visión subjetiva de ese paisaje sobrio y austero)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 histo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sobre todo de la “intrahistoria” o “vida callada de los millones de hombres sin historia”) 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 literatu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mantes de la literatura medieval, de nuestros clásicos,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uijo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de autores que se preocuparon por España: Larr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risis de fin de sig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e refleja en los conflictos existenciales, la angustia, la voluntad o su contrario (la abulia) para afrontar la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r por Españ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terés por valores patrióticos y castizos y por la europeización del país (para solucionar los problem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Los conflictos existenciales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o de los núcleos temáticos de modernistas y noventayochist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del 98 abordan la expresión de la angustia vital y problemas religiosos de manera más profunda, por 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hado se centra en el destino del hombre, el paso del tiempo, la muerte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ío Baroja muestra personajes descontentos con el mundo y falta de sentido de sus v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Unamuno los conflictos existenciales y religiosos se presentan de forma más dra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240080" y="1844640"/>
            <a:ext cx="4683240" cy="4797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91880"/>
            <a:ext cx="85914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 Black"/>
              </a:rPr>
              <a:t>3. Características estilísticas de esta generación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215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ilo predominante: antirretórico y cuidado (rico en términos de carácter tradicional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nos pesimistas y angustiado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arecen los problemas existenciales y religios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yen del esteticismo modernista y de la prosa simplona de los realist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optan un pensamiento subjetivo (a veces apasionado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ente a las descripciones exhaustivas de la novela realista (s. XIX), prefieren las descripciones de tipo impresionista (a base de pinceladas y deformaciones…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. Autores principale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uel de Unamu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ío Baro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orí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ezt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Mach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le-Incl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620720" cy="1996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5640" y="4724280"/>
            <a:ext cx="1357560" cy="1941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435640" y="3860640"/>
            <a:ext cx="1603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18360" y="189000"/>
            <a:ext cx="1716120" cy="2376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.1. Miguel de Unamun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él los conflictos existenciales y religiosos son más angustio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 una persona compleja y contradictoria: se debate entre la fe y la razón (lucha por conciliar su mente “deseosa de razón” y su corazón “necesitado de Dios”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sus textos, la angustia es const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 dudas y contradicciones aparecen en sus diferentes ensayos y novelas (él las llama “nivolas”), por ejemplo 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n Manuel Bueno Márt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5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114640" cy="2590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7720" y="244440"/>
            <a:ext cx="5575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 Black"/>
              </a:rPr>
              <a:t>San Manuel Bueno Márti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la corta que discurre en un pueblo peque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 sacerdote es Don Manuel; la llegada de Lázaro, hermano de Ángela (la narradora), turba la paz de los habitantes del pueb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ázaro es un “indiano” de ideas revolucionar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cura tampoco cree en la “inmortalidad del alma” pero convence a Lázaro de la necesidad de mantener al pueblo en la ignorancia: sólo la esperanza de otra vida mejor compensa a los po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n Angel</cp:lastModifiedBy>
  <dcterms:modified xsi:type="dcterms:W3CDTF">2008-10-22T12:03:34Z</dcterms:modified>
  <cp:revision>1</cp:revision>
  <dc:subject/>
  <dc:title>LA GENERACIÓN DEL 98</dc:title>
</cp:coreProperties>
</file>